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D36-030E-4B4A-BE8C-BFE510E7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8231-CB0C-44B0-B966-BEDD58DB1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B01-227B-40E7-B0FF-E1B2F25E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B45-E34C-484B-8156-6D28F5F6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DF9-8DB1-4089-8A4F-F1F9A136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63A-042E-4E4B-AA4A-567A1BCC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764-0C8B-4897-9B0D-D3DC8E90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879-D34F-4C8E-8A18-9F1BC285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233-9BB2-487B-97C5-C75A0C0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8ED-BA4D-4A11-B416-92DDA49A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2B0-9CE2-4EAB-B613-E5543B16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374-BAA0-4AC1-B1C1-3FB7EB0E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C72-247B-441C-B7D5-6F35C58E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DC4-1A94-4376-8783-7F33D50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0E8-890B-43C5-86D1-453D0A2A0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ule 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cohol (ethyl alcoho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nd in beer, wine, and liqu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cond most used psychoactive drug (caffeine fir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ows thinking, and impairs physica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Blair-Broeker_fig"/>
          <p:cNvPicPr/>
          <p:nvPr/>
        </p:nvPicPr>
        <p:blipFill>
          <a:blip r:embed="rId1"/>
          <a:stretch/>
        </p:blipFill>
        <p:spPr>
          <a:xfrm>
            <a:off x="2438280" y="4191120"/>
            <a:ext cx="6096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od Alcohol Content (B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easure of how much alcohol is in a person’s bloodst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 of .8 considered legal intoxication in most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Blair-Broeker_26UN02"/>
          <p:cNvPicPr/>
          <p:nvPr/>
        </p:nvPicPr>
        <p:blipFill>
          <a:blip r:embed="rId1"/>
          <a:stretch/>
        </p:blipFill>
        <p:spPr>
          <a:xfrm>
            <a:off x="3733920" y="3505320"/>
            <a:ext cx="39621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phoric Affects of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cohol impairs the parts of the brain responsible for controlling inhibitions and making jud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cohol, Memory, and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ies have shown that alcohol impairs memory by suppressing the processing of events into long term mem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cohol impairs REM sleep, further disrupting memory stor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coh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lair-Broeker_tabl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timula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ugs that excite neural activity and speed up bod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: caffeine, nicotine, amphetamines, and coc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ffe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5791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nt found in coffee, chocolate, tea, and some soft dr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user with a sense of increased energy, mental alertness, and forced wake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neurological receptor sites that, if activated, sedate the central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Blair-Broeker_26UN03"/>
          <p:cNvPicPr/>
          <p:nvPr/>
        </p:nvPicPr>
        <p:blipFill>
          <a:blip r:embed="rId1"/>
          <a:stretch/>
        </p:blipFill>
        <p:spPr>
          <a:xfrm>
            <a:off x="5791320" y="1143000"/>
            <a:ext cx="312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o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imulant found in tobac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s similar to those of caff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y addictive and does not stay in the body very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imulant derived from leaves of the coca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ack – cocaine crys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ocks the reuptake of certain neurotransmi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cy is quick and severe; places extreme strain on cardiovascular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ing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activ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ance capable of influencing perception, mood, cognition, or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 up activity in the C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 down activity in the C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ve 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edelic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rupt normal thought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phe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ugs that stimulate neural activity, speeding up bod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 increased energy and mood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s: speed, uppers, and  methamphetam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adrena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cause irreversible changes in m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Hallucinog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ucin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ychedelic drugs that distort perceptions and evoke sensory images in the absence of sensory 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: LSD and ecst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imes called “psychedelics” meaning mind-manif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sergic Acid Diethylamide (LS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ful hallucinogenic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“aci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s vary from person to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rs can be dangerous to themselves and ot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st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llucinogenic drug that produces lower inhibitions, pleasant feelings, and greater acceptance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called MD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derate users may experience permanent brain dam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Marijua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iju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ves, stems, resin, and flowers form the hemp plant that, when smoked, lower inhibitions and produce feelings of relaxation and mild euph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C (delta-9-tetrahydrocannabinol) is the active ingre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rupts memory; lung damage from sm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uide to Selected Psychoactive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Blair-Broeker_tabl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gh School Drug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Blair-Broeker_fig"/>
          <p:cNvPicPr/>
          <p:nvPr/>
        </p:nvPicPr>
        <p:blipFill>
          <a:blip r:embed="rId1"/>
          <a:stretch/>
        </p:blipFill>
        <p:spPr>
          <a:xfrm>
            <a:off x="304920" y="1374840"/>
            <a:ext cx="85341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ctive D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substance that alters perceptions, mood, or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common psychoactive dru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ff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co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uce an altered state of consci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e of physiological, psychological or both types of need to take more of a drug after continued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drawal follows if the drug is dis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dra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mfort and distress that follow when a person who is dependent on a drug discontinues the use of that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drawal symptoms are usually the reverse of the drug’s eff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duced responsiveness to a drug, prompting the user to larger dosages to achieve the same pleasurable effects previously obtained by lower d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Blair-Broeker_fig"/>
          <p:cNvPicPr/>
          <p:nvPr/>
        </p:nvPicPr>
        <p:blipFill>
          <a:blip r:embed="rId1"/>
          <a:stretch/>
        </p:blipFill>
        <p:spPr>
          <a:xfrm>
            <a:off x="1371600" y="1219320"/>
            <a:ext cx="63244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lcohol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 Depress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ugs that reduce neural activity and slow body func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s alcohol and sed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1-02T13:17:47Z</dcterms:modified>
  <cp:revision>60</cp:revision>
  <dc:subject/>
  <dc:title>Psychology</dc:title>
</cp:coreProperties>
</file>